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03B-22C0-45CB-8E6D-A0572A11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0A7F-3AB2-4538-AC9F-B30A7808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A3C-BBE0-40AE-AAE7-62C58784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08D-6348-4C38-B0AF-38613054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7AD5-AFBD-46C5-9919-661F7807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6FB-FAFA-4448-9143-4A489E76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A22-5C0F-4495-938C-0455C3FB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2AE-C21E-4021-A5A4-33A913A0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1ADF-4E63-482D-B382-42C89B1C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5BB3-3ACD-406D-A4B9-C92733B3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8C7-8979-482D-88B6-6F7967FE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3C9A-02E8-4ACB-B361-52BB14AB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A499-2AC2-42E3-ADC6-64206924D9A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olland_Marsh" TargetMode="External"/><Relationship Id="rId2" Type="http://schemas.openxmlformats.org/officeDocument/2006/relationships/hyperlink" Target="http://www.icangarden.com/" TargetMode="External"/><Relationship Id="rId3" Type="http://schemas.openxmlformats.org/officeDocument/2006/relationships/hyperlink" Target="http://www.megawhat.ca/" TargetMode="External"/><Relationship Id="rId4" Type="http://schemas.openxmlformats.org/officeDocument/2006/relationships/hyperlink" Target="http://www.thecanadianencylopedia.com/" TargetMode="External"/><Relationship Id="rId5" Type="http://schemas.openxmlformats.org/officeDocument/2006/relationships/hyperlink" Target="http://www.king.ca/BUSINESS/PublishingImages/hollandmarsh.jpg" TargetMode="External"/><Relationship Id="rId6" Type="http://schemas.openxmlformats.org/officeDocument/2006/relationships/hyperlink" Target="http://3.bp.blogspot.com/_ZoUcEpLEgn4/S7qHPzc3JGI/AAAAAAAAALA/jlAOvAZ4pcg/s1600/3969106027_23105e4217.jpg" TargetMode="External"/><Relationship Id="rId7" Type="http://schemas.openxmlformats.org/officeDocument/2006/relationships/hyperlink" Target="http://www.sciencedaily.com/releases/2007/08/070813162438.htm" TargetMode="External"/><Relationship Id="rId8" Type="http://schemas.openxmlformats.org/officeDocument/2006/relationships/hyperlink" Target="http://www.hollandmarshgold.com/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Holland Marsh, Bradford West Gwillimbu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lland Marsh Eco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Alex F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3969106027_23105e42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2900 ha of organic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Located near Bradford and West Gwillumb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50 km North of Toro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Founded by 18 Dutch families in the 193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 fairly well protected part of the Green B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hollandmars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rsh is mostly used for Market 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out human impact, the Holland marsh would have little fer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ps reflect the waves of immigration into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ow is mostly corporately ow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lso known as “Ontario’s salad bow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lland Marsh generates hundreds of millions of dollars worth of vegetables ann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-507960" y="-380880"/>
            <a:ext cx="10159920" cy="76197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45"/>
                </a:solidFill>
                <a:latin typeface="Arial"/>
              </a:rPr>
              <a:t>Contains 34 types of vegetables over 7,300 hectares of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OURMARS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33920" y="274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Plans for a new power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3902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s new gas-fire generator would be very in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uld leak out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ght destroy the mar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MEGA_3"/>
          <p:cNvPicPr/>
          <p:nvPr/>
        </p:nvPicPr>
        <p:blipFill>
          <a:blip r:embed="rId1"/>
          <a:stretch/>
        </p:blipFill>
        <p:spPr>
          <a:xfrm>
            <a:off x="152280" y="3733920"/>
            <a:ext cx="8991720" cy="2606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2727360" y="417600"/>
            <a:ext cx="40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The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3296160" y="213372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 the plant from being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Holland_Mar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cangarde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egawhat.c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test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thecanadianencylopedia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king.ca/BUSINESS/PublishingImages/hollandmarsh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3.bp.blogspot.com/_ZoUcEpLEgn4/S7qHPzc3JGI/AAAAAAAAALA/jlAOvAZ4pcg/s1600/3969106027_23105e421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sciencedaily.com/releases/2007/08/070813162438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hollandmarshgold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rkregion.com/news/article/626463--holland-marsh-worth-169m-ann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thecalloftheland.wordpress.com/2009/04/27/when-your-garden-runneth-over-veggie-trader/vegetable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ossfitoakland.com/archive/2009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3:16:51Z</dcterms:created>
  <dc:creator>User</dc:creator>
  <dc:description/>
  <dc:language>en-US</dc:language>
  <cp:lastModifiedBy>Alex Fung</cp:lastModifiedBy>
  <dcterms:modified xsi:type="dcterms:W3CDTF">2010-10-19T03:30:27Z</dcterms:modified>
  <cp:revision>14</cp:revision>
  <dc:subject/>
  <dc:title>Holland Marsh Ecosystem</dc:title>
</cp:coreProperties>
</file>